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B5F-AB22-44FA-AD4E-7613284F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3F9-3BAA-4B4B-AA2A-AC4200E4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051-8624-4CB7-AD43-3BAFDDAA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40A-96F5-44D1-98AE-4ADF45DA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6E1-DE86-49C2-B9E1-EB130F03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697-BD6D-458F-A6C2-B1E96B17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340-FB5E-4837-9488-D3A173C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19B-D987-400B-8C3A-7AFD94A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FD6-A366-4455-8A2F-C4FB494C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9E0-482D-4C1F-973E-DDC72DA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A65-69B9-4E39-8D2E-64D733B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435-F25D-4E91-9C8E-F57D6E1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D0FC-C905-44B3-A554-99C9F82D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Education_in_Italy" TargetMode="External"/><Relationship Id="rId3" Type="http://schemas.openxmlformats.org/officeDocument/2006/relationships/hyperlink" Target="http://library.thinkquest.org/CRO212302/italy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y Inquiry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would it be like to be in an Italian school and how would it be different to a N.Z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1949400" cy="20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1612800" cy="171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How many Stages a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here are 5 stages to school and they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Elementary (Primary)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iddle (Intermediate)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20557200">
            <a:off x="5716440" y="5251320"/>
            <a:ext cx="2324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6444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 Stag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6444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20000" y="249228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Subjects does a Normal Italian Student Lea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are the subjects that a normal Italian student would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ife and Earth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cial Sciences (Landscape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hysical Education (P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isual and Musical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have some of the subjects we learn and some we don’t like Life and Earth science and History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4797360"/>
            <a:ext cx="71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Long are you in School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Italy you are in school when you are 6-16! We start at 5 not 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Elementary you are there for 5 years! We are in Primary for 6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Kindergarten you are there for 3 years just lik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Middle School you are there for 3 years but here in N.Z. we are there for 2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in High School you are there for 5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80000" y="3068640"/>
            <a:ext cx="59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8000" y="5950080"/>
            <a:ext cx="376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Long are you in School in Each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Italy you are in school from 8:30am to 1:30pm in Primary and 8:00am to 1:00pm in High School and when you end school you go home just to have a BIG lunch with your WHOLE family! I wish I lived in Ita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39800">
            <a:off x="684000" y="4292280"/>
            <a:ext cx="2374920" cy="2081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20208600">
            <a:off x="6011640" y="4436640"/>
            <a:ext cx="199044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Interesting Fa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ke a look at some of these interesting fa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attend school 6 days a wee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0% of Italian students attend public sch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s don’t wear school uniform where here in N.Z. we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irls are not allowed to wear pants! (Only Skirt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hool is Compulsory so you HAVE to go!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flipH="1">
            <a:off x="7740720" y="3933720"/>
            <a:ext cx="1154160" cy="137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300720" y="2421000"/>
            <a:ext cx="432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cc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Have I Learnt From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have learnt many things from this inquiry question about how N.Z. and Italy are different in school education like that in Italy they start school when they are 6 and we start at 5 and that they have totally different subjects to us. So now I know how they are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486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My Reference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Education_in_Ita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brary.thinkquest.org/CRO212302/italy.htm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known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rave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pe you Enjoyed my Presen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y Emily Mein Sm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0:23:18Z</dcterms:created>
  <dc:creator>6g18</dc:creator>
  <dc:description/>
  <dc:language>en-US</dc:language>
  <cp:lastModifiedBy>6g18</cp:lastModifiedBy>
  <dcterms:modified xsi:type="dcterms:W3CDTF">2011-07-13T02:01:12Z</dcterms:modified>
  <cp:revision>10</cp:revision>
  <dc:subject/>
  <dc:title>My Inquiry Question</dc:title>
</cp:coreProperties>
</file>